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811-EF37-4B92-8C39-FE15CB6C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297-569A-420E-8135-0F02F6F2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3AEF-F882-4211-8339-F173BE80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F11-3A2F-41B3-B0FD-FD10DE7D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3EC5-9349-4293-A4D7-30B176CD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AEA5-6993-4DC1-AE4C-04F9A378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5916-57FC-44BA-B044-4A12BAD2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D84-B74A-44D2-AE01-4797301E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955A-149E-4D42-96CC-B05F4A92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6B59-5F9A-4B96-9A77-64D094ED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255-0D85-4F97-9E04-85ECDC2C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C27-E948-4E1D-B0CC-E246B14C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9C6D-FE8B-47C4-9C70-7B7144277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01680" y="1508040"/>
            <a:ext cx="85471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5491080"/>
            <a:ext cx="85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ح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786880" cy="1816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216000" y="3979800"/>
            <a:ext cx="8748720" cy="132084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708280"/>
            <a:ext cx="85690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كون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تلو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ولا تعملون : محمد صلى الله عليه وسلم وأم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82600" y="1671480"/>
            <a:ext cx="85694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عل ما أمر الله  ويترك ما نهى عن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73576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3213000"/>
            <a:ext cx="81360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653000"/>
            <a:ext cx="3632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108000" y="938160"/>
            <a:ext cx="88995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39760" y="1685880"/>
            <a:ext cx="8717040" cy="498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907920"/>
            <a:ext cx="9132840" cy="6177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941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قب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21200" y="94140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م الله الشام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29264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ما تكون يا محمد في أ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511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زن نملة 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6159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الشامل وإحاطت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جميع أعمال العبا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حصاة عل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م الله السابق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ذي دون الله فيه علم كل شيء قبل وقوع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أولياء الله 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ون المتق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79736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جهلة المسلمين الذين غلوا في الأولياء فجعلوا لهم أوصافاً لا قدرة للبشر عليها مث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ع والضر وعلم الغي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558972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كتساب ولاية الله ت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فعل الأوامر واجتناب النواه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60991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كرام الله ل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تعجيل البشارة لهم في الدنيا بثناء المؤمنين وبشارة الملائكة لهم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راقبة الله الدائمة والبعد عن ما حرم الله وفعل كل ما أوجب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169920" y="981000"/>
            <a:ext cx="88516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24000" y="984240"/>
            <a:ext cx="8584920" cy="561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4716360" y="292428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324000" y="292428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4716360" y="443700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عل الأوا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324000" y="443700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 النواه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4716360" y="5950080"/>
            <a:ext cx="3456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5950080"/>
            <a:ext cx="3166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7:00:23Z</dcterms:modified>
  <cp:revision>1981</cp:revision>
  <dc:subject/>
  <dc:title>عرض تقديمي في PowerPoint</dc:title>
</cp:coreProperties>
</file>